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6191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376-5CFB-4F04-9B23-32726DD8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876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148-C706-4B39-871D-70110CB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7D5-C35C-4D3C-AD73-0A1E0A26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BF5-BAC2-4FEF-A54A-F19534E1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8A5-121F-4BCF-883B-F5FADFC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715-49E3-4EC8-820E-6C7F6E3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C0C-0081-493E-B3EB-5AEB3AC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00B-96A1-4BD1-8628-F1C365AC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316-BEC8-4A3F-9758-6C6A8FA0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BAD-DC40-47AF-A86B-E6FE2C5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0B7-FDD1-41CB-95AA-F71E2B7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6F8-4771-464F-B58A-7AD8826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38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3832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38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B95-FE7A-4CF4-A8CE-B40D771981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0040" y="2936880"/>
            <a:ext cx="44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barc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7680" y="320760"/>
            <a:ext cx="5349240" cy="2399760"/>
            <a:chOff x="517680" y="320760"/>
            <a:chExt cx="5349240" cy="23997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17680" y="320760"/>
              <a:ext cx="7524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036960" y="1131480"/>
              <a:ext cx="73296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41440" y="1137960"/>
              <a:ext cx="75024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530280" y="1987200"/>
              <a:ext cx="70740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054240" y="360000"/>
              <a:ext cx="70920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073320" y="1928520"/>
              <a:ext cx="725040" cy="75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20840" y="428400"/>
              <a:ext cx="14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63600" y="112356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30680" y="533160"/>
              <a:ext cx="203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2680" y="217152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US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40040" y="1304640"/>
              <a:ext cx="19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59120" y="1990440"/>
              <a:ext cx="210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94040" y="1387440"/>
            <a:ext cx="1744920" cy="316080"/>
          </a:xfrm>
          <a:custGeom>
            <a:avLst/>
            <a:gdLst/>
            <a:ahLst/>
            <a:rect l="l" t="t" r="r" b="b"/>
            <a:pathLst>
              <a:path w="1099" h="199">
                <a:moveTo>
                  <a:pt x="0" y="0"/>
                </a:moveTo>
                <a:lnTo>
                  <a:pt x="1098" y="0"/>
                </a:lnTo>
                <a:lnTo>
                  <a:pt x="1098" y="198"/>
                </a:lnTo>
                <a:lnTo>
                  <a:pt x="0" y="1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92520" y="1266840"/>
            <a:ext cx="25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Throw again! Tira otra ve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2240" y="1440000"/>
            <a:ext cx="1352520" cy="217440"/>
          </a:xfrm>
          <a:custGeom>
            <a:avLst/>
            <a:gdLst/>
            <a:ahLst/>
            <a:rect l="l" t="t" r="r" b="b"/>
            <a:pathLst>
              <a:path w="852" h="137">
                <a:moveTo>
                  <a:pt x="0" y="0"/>
                </a:moveTo>
                <a:lnTo>
                  <a:pt x="851" y="0"/>
                </a:lnTo>
                <a:lnTo>
                  <a:pt x="851" y="136"/>
                </a:lnTo>
                <a:lnTo>
                  <a:pt x="0" y="1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5240" y="1143000"/>
            <a:ext cx="90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28760" y="190440"/>
            <a:ext cx="5349600" cy="2400480"/>
            <a:chOff x="428760" y="190440"/>
            <a:chExt cx="5349600" cy="2400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28760" y="190440"/>
              <a:ext cx="75240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948040" y="1001880"/>
              <a:ext cx="7333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2520" y="1008000"/>
              <a:ext cx="7509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441360" y="1857240"/>
              <a:ext cx="708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2965320" y="230040"/>
              <a:ext cx="70992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984400" y="1798560"/>
              <a:ext cx="7257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31920" y="2984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4680" y="993600"/>
              <a:ext cx="12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1760" y="403200"/>
              <a:ext cx="20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GB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93760" y="2041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1120" y="1174680"/>
              <a:ext cx="19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200" y="1860480"/>
              <a:ext cx="21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0760" y="2698920"/>
            <a:ext cx="753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perr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 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ila con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a mesa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lta</a:t>
            </a:r>
            <a:r>
              <a:rPr b="0" lang="en-GB" sz="21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190440"/>
            <a:ext cx="947520" cy="1049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02160" y="12286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236600"/>
            <a:ext cx="946080" cy="97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46040" y="2325600"/>
            <a:ext cx="890640" cy="939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622680" y="239760"/>
            <a:ext cx="895320" cy="9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648240" y="2251080"/>
            <a:ext cx="912600" cy="96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60520" y="34596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 </a:t>
            </a:r>
            <a:r>
              <a:rPr b="0" lang="en-GB" sz="1800" spc="-1" strike="noStrike">
                <a:solidFill>
                  <a:srgbClr val="32cd32"/>
                </a:solidFill>
                <a:latin typeface="Comic Sans MS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4200" y="124128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89560" y="479520"/>
            <a:ext cx="25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n 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58444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8920" y="14605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the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46440" y="231768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ke the sentenc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00" y="114480"/>
            <a:ext cx="614700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160" y="358920"/>
            <a:ext cx="7014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52:34Z</dcterms:created>
  <dc:creator>Katy Oliver</dc:creator>
  <dc:description/>
  <dc:language>en-US</dc:language>
  <cp:lastModifiedBy>Katy Oliver</cp:lastModifiedBy>
  <dcterms:modified xsi:type="dcterms:W3CDTF">2012-03-02T16:05:10Z</dcterms:modified>
  <cp:revision>2</cp:revision>
  <dc:subject/>
  <dc:title>Slide 1</dc:title>
</cp:coreProperties>
</file>